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777413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9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9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716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3920" y="160452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960" y="160452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3920" y="368208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960" y="368208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9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9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716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9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2600" y="0"/>
            <a:ext cx="8896320" cy="6845400"/>
            <a:chOff x="55260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55260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564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3828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2216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792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404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260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406440" y="6485040"/>
            <a:ext cx="706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nja Schaup, Markus Schneider, LG Kommunikationssysteme, FernUniversität 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98668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13516ED-ACF6-49CD-BE73-D3A240CD7732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9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01880" y="22860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e zur elektronischen Bezahlu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59080" y="3781440"/>
            <a:ext cx="7238880" cy="21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nja Schaup, Markus Schn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G Kommunikationssys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rnUniversität 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nja.schaup@fernuni-hagen.de, mark.schneider@fernuni-h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bertragbar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ahlungsvorgänge zwischen Teilnehm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ürliche Eigenschaft von realem 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ierige Umsetz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rein softwarebasierten Systemen mit den bis heute verfügbaren kryptographischen Methoden nich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lbar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fspaltung von elektronischen Münzen in gewünschte Beträ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Eigenschaft von realem 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t sich ausschließlich auf elektronisches Geld (nicht auf Überweisung, Scheck, Kreditka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 bzgl. optimaler Stück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- oder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i softwarebasierten Systemen sind dem Teilnehmer sämtliche Daten zugänglich, die bei Zahlungsvorgängen notwendig sind oder anfall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öheres Sicherheitsrisi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i hardwarebasierten Systemen sind Daten durch  Hardware geschüt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ftwarebasierter Ansatz weniger kostspie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terschiedliches Sicherheits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- oder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95440" y="1612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artcards nicht auslesbar, nicht modifizierbar, Manipulation zerstört K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e Sicherhe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eine Online-Überprüf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28720" y="3419640"/>
            <a:ext cx="63244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berwei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87680" y="1911240"/>
            <a:ext cx="65419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berwei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5440" y="1562040"/>
            <a:ext cx="861696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heit abhängig von Verfahren (SW / HW), Schutz vor Fälsc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sten abhängig vom Aufwand bei Authentifizie-rung, Kommunikationsaufw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Anonymität, da sämtliche Daten offengelegt werd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ückverfol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ahlungsanweisungen werden online auf Deckung überprüf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Netzen einsetz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1360" y="1596960"/>
            <a:ext cx="65419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5440" y="1549440"/>
            <a:ext cx="8616960" cy="43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aption des konventionellen Systems für den elektronischen Eins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nsatz asymmetrischer Krypt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heit vom Signaturverfahren abhäng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he Kosten, Aufwand, Verarbeitungsz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sierung bewirkt Reduktion der Transaktion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Anonymität, alle Daten offengeleg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-Überprüfung erforderli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ditka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6720" y="1758960"/>
            <a:ext cx="62514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ditka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95440" y="1625760"/>
            <a:ext cx="861696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hes Sicherheitsniveau, Verwendung von Public-Key-Krypt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stlegung von Zertifizierungshierarch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fälschbarkeit und Nichtduplizierbarkeit durch Verwendung digitaler Unterschri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anonym, Zahlung personalisiert und aus Sicherheitsgründen gespeich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Netzen einsetz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-Überprüfu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sche Zahlungssyst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ktronische Überweis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e auf der Basis von Kreditk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ktronische Zahlungsanweisungen (Sche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ktronisches Geld auf Software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ktronisches Geld auf Chipkarten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tk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sches Geld (Tokensyst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1040" y="2000160"/>
            <a:ext cx="65419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sches Geld (Tokensyst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5440" y="1574640"/>
            <a:ext cx="8616960" cy="420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ken als elektronisches Pendant zum realen 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ken kann nur einmal verwendet werden, Mehr-fachverwendung aus Sicherheitsgründen nich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fahr des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onymität möglich (Blind Signa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ken besteht aus Nachricht und Signatur der Bank, zusätzliche Informationen möglich (auch Teilnehmerdaten, die dann jedoch die Banknote deanonymisi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sches Geld (Tokensyst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5440" y="180324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rein softwarebasierter Umgebung sichere Lösung mit Online-Überprüfung mögli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matisierte Verarbeitung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Netzen einsetzbar (z.B.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prepaid Token keine Überprüfung der Dec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fahr des Mißbrauchs reduziert sich auf vorhandene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sches Geld (Tokensyst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95440" y="189216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ktivitäten von übergeordneter Instanz nicht nachvollzieh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nn Tokens keine Identifier 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ine zusätzliche Identifikation bei der Transaktion benötigt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ine indirekte Identifikation durch Korrelation möglich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nderform der benutzergesteuerten Rückverfolgbarkei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tka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95440" y="153684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ähler repräsentiert einen Gegenwert in 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dwarerealisierung durch Smart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ugang mittels Schlü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pieren, Modifikation nich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ähler wird hoch- bzw. runtergezäh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he Sicherheit, geringe Transaktion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-Überprüfung nicht not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onym, keine 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Verwendung in N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basierte Syst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et Keyed Payment Protocols (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 (Mastercard, VISA, Netscape, Microso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ash (DigiC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llicent (D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yber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cash (University of Southern Californ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i verfügbar in Versionen i=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bezeichnet Sicherheits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=1: Kommunikation zur Bank hin mit Public-Key-Kryptographie gesich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=2: Nachrichten zur Bank und zum Verkäufer verschlüss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=3: alle Nachrichten verschlüss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neue Technol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beitet auf Kreditkarten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koll zur Verwendung von unterschiedlichen bekannten kryptographischen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terstützt Erstellung von Quit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sicherter Austausch von Zahlungsanweisungen zum Transfer von Geldbeträgen zwischen Ko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en für alle Infra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- Secure Electronic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95440" y="165096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chfolgesystem v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u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nsac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nology (VISA, Microsoft) u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u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ctronic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ym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tocol (MasterCard, IBM, Netscape, GTE, CyberC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6 erster Draft veröffent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ben elektronischer Bezahlung gesicherte Verteilung virtueller Kreditkarten, virtueller Verkäuferauthorisierung, virtueller Bankauthorisierung und elektronischer Zertifi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- Secure Electronic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sichertes Kommunikations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hes Sicherheits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wendung von Public-Key-Krypt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faßt keine Funktionalitäten von realem 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Netzen verwend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sonderes Maß an Vertraulich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20640" y="228600"/>
            <a:ext cx="86868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enschaften von elektronischen Zahlungs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0640" y="1562040"/>
            <a:ext cx="8591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duplizierbarkeit, Nichtfälsch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aktion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rückverfolg-, Nichtverbindbarkeit, Anonym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wendbarkeit in N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-Überprüf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bertra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isierung in Hard- ode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- Secure Electronic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wendung von Dual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44760" y="2495520"/>
            <a:ext cx="6678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sh (DigiCas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9880" y="1625760"/>
            <a:ext cx="87631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iert auf Token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ic cash System (D. Cha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ldversuch in Deutschland (Deutsche B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mmerziell verfügbar seit 1995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ash benötigt spezifische Software für Kunden und  Verkäu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ktronische Geldscheine mit geheimem Schlüssel signiert, Bank schickt Geldschein an Kunden, Verkäufer kann Geldschein auf Echtheit überprü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sh (DigiCas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Teilbarkeit der elektronischen Mü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bertragbarkeit bedingt gegeben (risikobehaf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ringe Transaktion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satz bei Verlust möglich, sofern Teilnehmer noch im Besitz des Blinding Factors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Netzen verwend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ur Sicherheit (Double Spending) Online-Überprüf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sh (DigiCas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5440" y="156204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eder Bezahlvorgang erzeugt eine Quittung, die der Kunde in verschlüsselter Form erhält und die nur er entschlüsseln kan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dingte 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äufer kann anonym bleiben (auch gegenüber Verkäufer), Verkäufer n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ufvorgang (Kundendaten) muß hierbei keiner Bank offengele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hat keine 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sh (DigiCas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wendung blinder Signa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ilnehmer macht Banknote unkenntlich, so daß Bank sie als solche erkennt, jedoch nicht identifizieren k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k unterschreibt Bank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ilnehmer bearbeitet Banknote so, daß Bank keinen Zusammenhang zwischen dieser und unterschriebener Nachricht herstellen kann, aber jederzeit überprüfen kann, ob es sich um eine gültige von ihr signierte Banknote hand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sh (DigiCas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5440" y="1828800"/>
            <a:ext cx="8616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ind Signatures mit RSA (e Public Key der Bank, d Secret Key der Bank, n öffentlicher Modulus, M Banknote, k Zufallszah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40160" y="3365640"/>
            <a:ext cx="2909880" cy="714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02000" y="4025880"/>
            <a:ext cx="5967360" cy="71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376440" y="4686120"/>
            <a:ext cx="5321160" cy="717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922320" y="3405240"/>
            <a:ext cx="1962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neh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6760" y="4713120"/>
            <a:ext cx="1962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neh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22320" y="4052880"/>
            <a:ext cx="99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5440" y="175248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5 von DEC entwick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-cost Überweisungssystem für kleine Geldbeträge, Micro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ine Softwarere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heitsniveau vernachlässigt, da Verluste nur in kleinem Rahmen auftreten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ten werden beim Verkäufer lokal gefüh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rug je nach Securitylevel sehr leicht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5440" y="16002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unde schickt Kauforder an Verkäufer mit spezieller Information, die ihn authentifiziert (PW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ur Vermeidung vieler Konten bei unter-schiedlichen Verkäufern aus Kundensicht Einführung von Bro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oker hat Konten bei den Verkäufern, Kunde hat ein Konto bei einem 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unde kauft sich notwendige Information beim Broker, um mit dieser über das Brokerkonto beim Verkäufer bezahlen zu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aschenhalsfunktion des Br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unterschiedliche Security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gesicherte 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trau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wendung von Signaturen, keine Vertrau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ückverfol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wendbarkeit in N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Anonym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berC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95440" y="162576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e Transaktionen für Kreditk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nst nur noch so lange relevant, bis Kreditkartengesellschaften ihre Standards eingeführt h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ch zusätzliche Software auf Kunden- und Verkäuferseite realis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hr hohes Sicherheitsniveau (1024 bit 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icher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2480" y="1625760"/>
            <a:ext cx="85597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heit basiert 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yptographischen 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yptographischen Protok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cherer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utzmechanismen, z.B. Verschlüsselung, Authentif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trauliche Datenübertragung in N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fikation mittels PIN, PW, Signatur, biometrischen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manipulierbare Smartc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C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95440" y="1549440"/>
            <a:ext cx="861696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wickelt vom Information Sciences Institute, University of Souther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ken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unde fordert elektronisches Geld an, Bank antwortet per e-mail und elektronischer Mü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-Überprüfung 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zusätzliche Software 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wicklung automatis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onymität wird garantiert, ist jedoch leicht zu umgehen, keine echte Anonym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C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95440" y="1612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ückverfol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ch die Verwendung von e-mail müssen sich alle Parteien gegenseitig identifiz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wechslungsgebühren relativ 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zusätzliche Verschlüsselung, kein hohes Sicherheits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digitalen Signaturen zum Beweis der Echt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heitsniveau ist nur für Transaktionen im unteren Wertebereich ausrei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basierte Syst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Card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81360" y="1701720"/>
            <a:ext cx="4584600" cy="2220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160880" y="2338560"/>
            <a:ext cx="43941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die direkte Substit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n Bar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57480" y="3416400"/>
            <a:ext cx="2516040" cy="1473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637000" y="3417840"/>
            <a:ext cx="66326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wohl für Substitution von Bargeld als auch für Einsatz in N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7880" y="5170320"/>
            <a:ext cx="7794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kolle und Verfahren meist geheimgehal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urteilung schwier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3 in Dänemark eingeführt (Lizenz Vi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 1996 während olympischer 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ur Benutzung an einem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Smartcard, intelligente Memoryk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cherheitsniveau zwischen Magnetstreifenkarte und Chipk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ünstiger als Chipkarten (kein Prozess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Anonym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5 in Belgien eingefüh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nicht offengele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sicherheit basiert auf Secret-Key-Kryptographi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erbindbar und rückverfolgbar, auch wenn zunächst ano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fladbar über eine Online-Verbindung, somit muß das Terminal keinen Zugang zum Masterkey habe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bindung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erenztransaktion ermöglicht Deanonym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 C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setzung herkömmlicher Kreditkarten durch Smartcards bei Integration eines Stored Valu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s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ine Vorkehrung zur Vermeidung der 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isierte Karte ist mit einem Konto verbind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5440" y="1562040"/>
            <a:ext cx="8616960" cy="43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unächst Alternative zum Bargeld, zukünftig auch für Zahlungen über das Internet ged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lesemöglichkeit des Füllst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bertragbarkeit des Inhaltes auf andere K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-Key-Kryptographi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öhere 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bindbarkei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ückverfolg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keys in Wallet vorhanden, die sich als Ziel für eine Attacke eher eignen als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mmunikation zwischen Wallet und Karte manipulier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-Projekt seit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ment Device for the yea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rte, Terminal, Wa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nehmer bestimmt Anonymitätslevel sel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rückverfol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terstützt mehrere Wäh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i Verlust der Karte kann Geld 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nehmer kann Kommunikation zwischen Terminal und Karte verf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5440" y="154944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llet nicht für Speicherung des Geldes, sondern zur Abwicklung der Kommunikation zwischen Karte und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mmunikation zwischen Wallet und Terminal über Infrarot-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nsatz von Public-Key-Krypt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traulich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te Anonymität gewährleis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teuer (Karte und Wal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enübertragung nicht näher spezifizier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nsatz in unsicheren Netzwerken (Internet) denk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ktbegeleitende Ansätze in Sozial- und Marktfors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tduplizier-, Nichtfälschbar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ktronisches Geld, Zahlungsanweisungen, Überweisungsaufträge in Form von Bitmustern können leicht kopie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htheit muß sehr leicht überprüfbar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fwand zur Erlangung von Nichtduplizier- und Nichtfälschbarkeit muß gering se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schließen von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979960" y="1676520"/>
            <a:ext cx="0" cy="466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49440" y="504180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9120" y="4495680"/>
            <a:ext cx="8547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49440" y="374652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6840" y="430524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49440" y="318780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49440" y="262908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62040" y="207000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72000" y="504180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08560" y="275580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2000" y="412740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08560" y="218448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08560" y="3327480"/>
            <a:ext cx="2959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ber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41760" y="1600200"/>
            <a:ext cx="6616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Paym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line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3560" y="2717640"/>
            <a:ext cx="25272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ück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fol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42800" y="4851360"/>
            <a:ext cx="25272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rück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fol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656160" y="2108160"/>
            <a:ext cx="8636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K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465360" y="265428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36760" y="3200400"/>
            <a:ext cx="1650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lli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122640" y="374652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yber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7560" y="505476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24160" y="431784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67640" y="219708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919920" y="275580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83360" y="3352680"/>
            <a:ext cx="3251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rCard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5200" y="414036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34120" y="5054760"/>
            <a:ext cx="2527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ktions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5440" y="1536840"/>
            <a:ext cx="8616960" cy="44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sten der Transaktion sind bei der Auswahl eines Systems zu berücksich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eit und Verarbeitungsaufw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ierte Ab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kollauf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mmunikations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-Überprüfung der Deck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eitstellung der Systeme (Anschaffung, Wartu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- oder Software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sten der Routinen zur Auflösung erfolgreicher Angri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04640" y="228600"/>
            <a:ext cx="89787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rückverfolg-, Nichtverbindbarkeit, Anonym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ückverfolgbarkeit: Nachvollziehen des Weges einer elektronischen Mü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bindbarkeit: Möglichkeit des Erkennens von Zusammenhängen zwischen Teilnehmern und Zahlungsmitteln durch Referenztransa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onymität: Nichtoffenlegung der Identität des Käufers bei der Bez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wendbarkeit in Net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tsunabhängigkeit, räumliche Auflösung zwischen den Orten des Verkäufers und Käu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öglichkeit zum Online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abhängigke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ätze auf Zählerbasis mit Prepaid-Eigenschaft sind nicht in Netzen einsetz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e, bei denen die relevanten Daten authentifizierbar s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4468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-Überprüf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5440" y="1828800"/>
            <a:ext cx="861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berprüfung der Deckung des fälligen Betrages vor der Bezahlung (Überweisung, Kreditka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berprüfung der Gültigkeit / Echtheit des Zahlungsmittels (elektronisches Geld, nicht erforderlich bei prepaid Smartc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rastruktur erforde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G Kommunikationssysteme</dc:creator>
  <dc:description/>
  <dc:language>en-US</dc:language>
  <cp:lastModifiedBy>LG Kommunikationssysteme</cp:lastModifiedBy>
  <cp:revision>0</cp:revision>
  <dc:subject/>
  <dc:title>Computer Money</dc:title>
</cp:coreProperties>
</file>